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F44-0E8E-46CE-9941-33F69B3E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900F-39CA-44B2-974A-0D167299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DC51-4DFB-4DB1-BA72-4C3E3990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B86-8A8C-4225-90A3-BD1127A4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541-B749-478C-8D67-F8C6B049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318-CAF9-41C3-8176-0F5D3B07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E9F-BD2A-47EF-AA6F-7B4D5416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FE35-72E8-499D-96BB-25B4FD7F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1E5-EE2A-4977-A986-9CB4E700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A8CD-FD8F-402D-9D10-0249BF5B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D09-92B1-4566-9A28-12106E10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725F-2801-4BEC-B2EB-DAF87142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887B-B4B8-488B-9AAC-653D04FC2D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FD Hexane Ex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2362320"/>
            <a:ext cx="10670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2286000"/>
            <a:ext cx="1066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34290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2743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2"/>
            <a:endCxn id="44" idx="1"/>
          </p:cNvCxnSpPr>
          <p:nvPr/>
        </p:nvCxnSpPr>
        <p:spPr>
          <a:xfrm flipH="1" rot="16200000">
            <a:off x="1638360" y="2933280"/>
            <a:ext cx="6861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2666880" y="4648320"/>
            <a:ext cx="10670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54864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9880"/>
            <a:ext cx="10670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3" idx="2"/>
            <a:endCxn id="44" idx="0"/>
          </p:cNvCxnSpPr>
          <p:nvPr/>
        </p:nvCxnSpPr>
        <p:spPr>
          <a:xfrm rot="5400000">
            <a:off x="3504600" y="2743200"/>
            <a:ext cx="305280" cy="1067040"/>
          </a:xfrm>
          <a:prstGeom prst="bentConnector5">
            <a:avLst>
              <a:gd name="adj1" fmla="val 475796"/>
              <a:gd name="adj2" fmla="val 171717"/>
              <a:gd name="adj3" fmla="val 24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7" idx="3"/>
            <a:endCxn id="49" idx="2"/>
          </p:cNvCxnSpPr>
          <p:nvPr/>
        </p:nvCxnSpPr>
        <p:spPr>
          <a:xfrm flipV="1">
            <a:off x="3733920" y="4724280"/>
            <a:ext cx="8384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7" idx="1"/>
            <a:endCxn id="48" idx="0"/>
          </p:cNvCxnSpPr>
          <p:nvPr/>
        </p:nvCxnSpPr>
        <p:spPr>
          <a:xfrm flipV="1" rot="10800000">
            <a:off x="1904400" y="5105520"/>
            <a:ext cx="762480" cy="381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57150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5562720"/>
            <a:ext cx="1066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6172200"/>
            <a:ext cx="1066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6172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4" idx="3"/>
            <a:endCxn id="56" idx="1"/>
          </p:cNvCxnSpPr>
          <p:nvPr/>
        </p:nvCxnSpPr>
        <p:spPr>
          <a:xfrm>
            <a:off x="3809880" y="6172200"/>
            <a:ext cx="305280" cy="2289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809880" y="5943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25909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ntrifug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49528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ntrifug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60199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ntrifug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236232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ysed 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1981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il/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4290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mass slur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5909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x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65760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mass slurry + hexa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4038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xane/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586728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mass + 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56386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62485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5791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6400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304812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13716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3352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apo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676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ntrifuge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42" idx="0"/>
            <a:endCxn id="75" idx="1"/>
          </p:cNvCxnSpPr>
          <p:nvPr/>
        </p:nvCxnSpPr>
        <p:spPr>
          <a:xfrm flipH="1" flipV="1" rot="5400000">
            <a:off x="1485720" y="1714680"/>
            <a:ext cx="533880" cy="762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8" idx="3"/>
            <a:endCxn id="74" idx="2"/>
          </p:cNvCxnSpPr>
          <p:nvPr/>
        </p:nvCxnSpPr>
        <p:spPr>
          <a:xfrm flipV="1">
            <a:off x="5105520" y="3962520"/>
            <a:ext cx="1219320" cy="199440"/>
          </a:xfrm>
          <a:prstGeom prst="bentConnector4">
            <a:avLst>
              <a:gd name="adj1" fmla="val 27938"/>
              <a:gd name="adj2" fmla="val -162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4" idx="0"/>
            <a:endCxn id="43" idx="3"/>
          </p:cNvCxnSpPr>
          <p:nvPr/>
        </p:nvCxnSpPr>
        <p:spPr>
          <a:xfrm flipV="1" rot="16200000">
            <a:off x="5352840" y="2076120"/>
            <a:ext cx="343440" cy="1600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6858000" y="3505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2133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1600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0120" y="3429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ude 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1981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ude 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14479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638680"/>
            <a:ext cx="106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water 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624852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y Animal 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6248520"/>
            <a:ext cx="1067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62920" y="6400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48520" y="6400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y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41148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2 Lysising BF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286000"/>
            <a:ext cx="16002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1337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2362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4876920"/>
            <a:ext cx="137160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4419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4038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657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297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2590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4038480"/>
            <a:ext cx="190512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5" idx="3"/>
            <a:endCxn id="105" idx="0"/>
          </p:cNvCxnSpPr>
          <p:nvPr/>
        </p:nvCxnSpPr>
        <p:spPr>
          <a:xfrm>
            <a:off x="4952520" y="2286000"/>
            <a:ext cx="343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533520" y="4952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5105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048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495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1676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876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sed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43800" y="4876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ifug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105" idx="2"/>
          </p:cNvCxnSpPr>
          <p:nvPr/>
        </p:nvCxnSpPr>
        <p:spPr>
          <a:xfrm rot="5400000">
            <a:off x="3790440" y="4743360"/>
            <a:ext cx="305640" cy="2705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1752480" y="6019920"/>
            <a:ext cx="8384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981080" y="4952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2 Make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61722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01:10:51Z</dcterms:created>
  <dc:creator>m</dc:creator>
  <dc:description/>
  <dc:language>en-US</dc:language>
  <cp:lastModifiedBy>m</cp:lastModifiedBy>
  <dcterms:modified xsi:type="dcterms:W3CDTF">2010-02-26T01:40:33Z</dcterms:modified>
  <cp:revision>2</cp:revision>
  <dc:subject/>
  <dc:title>BFD Hexane Extraction</dc:title>
</cp:coreProperties>
</file>